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0119D-4B4A-485C-9996-0C24C1BE43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7FAE2-74BC-44A8-95FB-61D6912676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6D139-735D-407B-AE53-52B71F54A1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2E6CC-0861-4ECF-807E-DD80A6140A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45E17-FF7C-4723-A891-55F46B0E2C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B8D4A-E8CD-4C46-9C80-B9BB5DDD43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30A67-E10D-4264-9D49-A5FE794E2B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33CC3-CC99-4B15-AC0B-459FD44D65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A6E16-4F68-4B9A-A140-8B13D76EE0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F8367-A7E4-4BCF-99B2-173827F6DB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FFD10-F4AB-48B9-966D-370594AB30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7F3F9-E344-4BDD-B387-34679E1F9B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6DEE4-BF1D-4D0C-838C-2FCA013188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4A0B3-AD3C-4BCF-8AA4-8F3B597809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53009-7926-47C8-9046-2EAAA35FA1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3CA76-938C-4AF7-8D7E-B55602A983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45064-AB41-4447-A629-9B0657FC0B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0D0BB-567D-414E-A595-60CA732A3B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011A0-A7DE-4705-91FB-40F2AC04B9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6AC3E-EFCE-41E5-88A6-D9286A22D5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0D027-A9C3-435A-8BB9-3C02F18DA3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B66BB-2F09-4E52-A493-9F7326E8C0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141A7-D48B-46B6-98B2-3DD6D9DD44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59220-D0E9-4DE3-AF18-82DADC0FEF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AE556-7935-450D-A7AF-A593250518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5010-5DD7-44AF-8E0D-81B565ABC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1623-46D2-45E7-AAAE-2506DFA36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34BE-B059-4A97-BA15-67A3D99E5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D6F4-FD04-47FD-8F43-07B0D2A4B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B8DA-BAB5-4D02-BF08-ABC193924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82DF-6AB1-4B4D-9727-6457805DD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8DA0-6DD0-4D3F-8EFD-298EBC18B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DA67-3E4D-4C2D-B8D1-125ADF74E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4337-1B04-49B8-A8D8-C32879BA1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2677-9BA4-4DA8-8AF7-783E71BE2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DB20-8472-4147-8377-C90E8A3B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6100-378B-4855-B61B-C21A076ED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38834-32A3-4AD6-BA4E-DDF8F484B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flickr.com/photos/joangel/188015247/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flickr.com/photos/bondomania/3315573/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flickr.com/photos/shesnuckinfuts/479667188/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ww.flickr.com/photos/ozoni11/2051474158/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www.flickr.com/photos/mundilfari_gjk/2326915802/" TargetMode="External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flickr.com/photos/cheguevara2001/2006181902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flickr.com/photos/picturebug/110649707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flickr.com/photos/joiseyshowaa/1400175456/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flickr.com/photos/13674581@N05/1396064977/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flickr.com/photos/shesnuckinfuts/479667188/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flickr.com/photos/bondomania/3315573/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flickr.com/photos/joangel/188015247/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flickr.com/photos/parisiphoto/2676274227/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flickr.com/photos/shesnuckinfuts/479667188/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ww.flickr.com/photos/joangel/188015247/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www.flickr.com/photos/bondomania/3315573/" TargetMode="External"/><Relationship Id="rId6" Type="http://schemas.openxmlformats.org/officeDocument/2006/relationships/image" Target="../media/image9.jpeg"/><Relationship Id="rId7" Type="http://schemas.openxmlformats.org/officeDocument/2006/relationships/hyperlink" Target="http://www.flickr.com/photos/13674581@N05/1396064977/" TargetMode="External"/><Relationship Id="rId8" Type="http://schemas.openxmlformats.org/officeDocument/2006/relationships/image" Target="../media/image7.jpeg"/><Relationship Id="rId9" Type="http://schemas.openxmlformats.org/officeDocument/2006/relationships/hyperlink" Target="http://www.flickr.com/photos/35663537@N00/85220431/" TargetMode="External"/><Relationship Id="rId10" Type="http://schemas.openxmlformats.org/officeDocument/2006/relationships/image" Target="../media/image6.jpeg"/><Relationship Id="rId11" Type="http://schemas.openxmlformats.org/officeDocument/2006/relationships/image" Target="../media/image5.jpeg"/><Relationship Id="rId12" Type="http://schemas.openxmlformats.org/officeDocument/2006/relationships/image" Target="../media/image4.jpeg"/><Relationship Id="rId13" Type="http://schemas.openxmlformats.org/officeDocument/2006/relationships/image" Target="../media/image3.jpeg"/><Relationship Id="rId14" Type="http://schemas.openxmlformats.org/officeDocument/2006/relationships/image" Target="../media/image1.jpeg"/><Relationship Id="rId15" Type="http://schemas.openxmlformats.org/officeDocument/2006/relationships/image" Target="../media/image2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flickr.com/photos/cheguevara2001/2006181902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flickr.com/photos/picturebug/110649707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flickr.com/photos/joiseyshowaa/1400175456/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flickr.com/photos/79873540@N00/439763505/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flickr.com/photos/parisiphoto/2676274227/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flickr.com/photos/35663537@N00/85220431/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flickr.com/photos/13674581@N05/1396064977/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640080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250920" y="1557360"/>
            <a:ext cx="849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)  To revise from last half-te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) to learn 10 parts of n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) to play to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1908000" y="5084640"/>
            <a:ext cx="6664680" cy="13129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una carreter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Mini Motorway by Jo Ange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14760" y="1214280"/>
            <a:ext cx="430344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1908000" y="5084640"/>
            <a:ext cx="5761080" cy="13129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una colin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One Tree Hill 2 by Bondsey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40000" y="765000"/>
            <a:ext cx="4527360" cy="36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900000" y="5084640"/>
            <a:ext cx="7201080" cy="13129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la naturalez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Nature by shesnuckinfut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189000"/>
            <a:ext cx="2951280" cy="2262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Parade Magazine, Nature Conservancy Contest Winner by ozoni1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284720" y="1484280"/>
            <a:ext cx="2808360" cy="2071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'DEEP VALLEY'  -  'THE MAGIC OF NATURE'   -  Best viewed large ! by Mundilfari*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187280" y="3068640"/>
            <a:ext cx="288000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2" descr="The Eye of the Forest by CheGuevara-Pau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40000" y="260280"/>
            <a:ext cx="223200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3" descr="Chauga River by Harriet  Picturebu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4960" y="3857760"/>
            <a:ext cx="208908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1" descr="my tree at dusk by joiseyshowa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43040" y="3429000"/>
            <a:ext cx="2232000" cy="16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7" descr="Soil Sample by eroos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14840" y="5075280"/>
            <a:ext cx="183492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Nature by shesnuckinfut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43200" y="3071880"/>
            <a:ext cx="925560" cy="7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6" descr="One Tree Hill 2 by Bondsey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28000" y="0"/>
            <a:ext cx="201600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539640" y="2349360"/>
          <a:ext cx="8209080" cy="3191040"/>
        </p:xfrm>
        <a:graphic>
          <a:graphicData uri="http://schemas.openxmlformats.org/drawingml/2006/table">
            <a:tbl>
              <a:tblPr/>
              <a:tblGrid>
                <a:gridCol w="1941480"/>
                <a:gridCol w="2090880"/>
                <a:gridCol w="2124000"/>
                <a:gridCol w="2052720"/>
              </a:tblGrid>
              <a:tr h="16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echa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ujeto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oy a aprender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 </a:t>
                      </a: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prendido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naturalez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 / 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Text Box 19"/>
          <p:cNvSpPr/>
          <p:nvPr/>
        </p:nvSpPr>
        <p:spPr>
          <a:xfrm>
            <a:off x="684360" y="549360"/>
            <a:ext cx="7343640" cy="1312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Cuántas cosas vas a aprender ho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Mini Motorway by Jo Ange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57800" y="0"/>
            <a:ext cx="216036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9" descr="Brazil's Countryside by Sergio Parisi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43760" y="2071800"/>
            <a:ext cx="216036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826920" y="189000"/>
            <a:ext cx="6840720" cy="659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w to see if you were paying atten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1) Escribe el espa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ñol y el ingl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n r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í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un lag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un m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un árb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un bosq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el paisaj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una montañ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una coli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una carrete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la naturalez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la tier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4932360" y="2421000"/>
            <a:ext cx="4211640" cy="2533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) Reorganiza las palabr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 español   en ing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jeais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ír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zanatla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queb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inca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6"/>
          <p:cNvSpPr/>
          <p:nvPr/>
        </p:nvSpPr>
        <p:spPr>
          <a:xfrm>
            <a:off x="7143840" y="3071880"/>
            <a:ext cx="0" cy="1800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7"/>
          <p:cNvSpPr/>
          <p:nvPr/>
        </p:nvSpPr>
        <p:spPr>
          <a:xfrm>
            <a:off x="5003640" y="3357720"/>
            <a:ext cx="414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539640" y="2349360"/>
          <a:ext cx="8209080" cy="3191040"/>
        </p:xfrm>
        <a:graphic>
          <a:graphicData uri="http://schemas.openxmlformats.org/drawingml/2006/table">
            <a:tbl>
              <a:tblPr/>
              <a:tblGrid>
                <a:gridCol w="1941480"/>
                <a:gridCol w="2090880"/>
                <a:gridCol w="2124000"/>
                <a:gridCol w="2052720"/>
              </a:tblGrid>
              <a:tr h="16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echa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ujeto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oy a aprender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 </a:t>
                      </a: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prendido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naturalez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 / 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 / 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Text Box 19"/>
          <p:cNvSpPr/>
          <p:nvPr/>
        </p:nvSpPr>
        <p:spPr>
          <a:xfrm>
            <a:off x="684360" y="549360"/>
            <a:ext cx="7343640" cy="1312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Cuántas cosas vas a aprender ho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Nature by shesnuckinfut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27640" y="4437000"/>
            <a:ext cx="2230560" cy="1709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Mini Motorway by Jo Angel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132000" y="4292640"/>
            <a:ext cx="2160720" cy="17445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One Tree Hill 2 by Bondsey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300720" y="2492280"/>
            <a:ext cx="2016360" cy="1604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Soil Sample by eroos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24000" y="4365720"/>
            <a:ext cx="1834920" cy="1782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Reflection in Saif-ul-Malook Lake by Heartkins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916360" y="2349360"/>
            <a:ext cx="2447640" cy="1797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Brazil's Countryside by Sergio Parisi"/>
          <p:cNvPicPr/>
          <p:nvPr/>
        </p:nvPicPr>
        <p:blipFill>
          <a:blip r:embed="rId11"/>
          <a:stretch/>
        </p:blipFill>
        <p:spPr>
          <a:xfrm>
            <a:off x="324000" y="2492280"/>
            <a:ext cx="2160360" cy="1476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Sea life by luisa_m_c_m_cruz"/>
          <p:cNvPicPr/>
          <p:nvPr/>
        </p:nvPicPr>
        <p:blipFill>
          <a:blip r:embed="rId12"/>
          <a:stretch/>
        </p:blipFill>
        <p:spPr>
          <a:xfrm>
            <a:off x="7056360" y="333360"/>
            <a:ext cx="2087640" cy="1757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my tree at dusk by joiseyshowaa"/>
          <p:cNvPicPr/>
          <p:nvPr/>
        </p:nvPicPr>
        <p:blipFill>
          <a:blip r:embed="rId13"/>
          <a:stretch/>
        </p:blipFill>
        <p:spPr>
          <a:xfrm>
            <a:off x="4716360" y="33336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The Eye of the Forest by CheGuevara-Paul"/>
          <p:cNvPicPr/>
          <p:nvPr/>
        </p:nvPicPr>
        <p:blipFill>
          <a:blip r:embed="rId14"/>
          <a:stretch/>
        </p:blipFill>
        <p:spPr>
          <a:xfrm>
            <a:off x="2340000" y="260280"/>
            <a:ext cx="2232000" cy="1692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1" descr="Chauga River by Harriet  Picturebug"/>
          <p:cNvPicPr/>
          <p:nvPr/>
        </p:nvPicPr>
        <p:blipFill>
          <a:blip r:embed="rId15"/>
          <a:stretch/>
        </p:blipFill>
        <p:spPr>
          <a:xfrm>
            <a:off x="179280" y="333360"/>
            <a:ext cx="208908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1908000" y="5084640"/>
            <a:ext cx="5761080" cy="131292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un bosqu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The Eye of the Forest by CheGuevara-Pau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40000" y="1052640"/>
            <a:ext cx="452736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908000" y="5084640"/>
            <a:ext cx="5761080" cy="131292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un r</a:t>
            </a:r>
            <a:r>
              <a:rPr b="0" lang="en-GB" sz="8000" spc="-1" strike="noStrike">
                <a:solidFill>
                  <a:srgbClr val="000000"/>
                </a:solidFill>
                <a:latin typeface="Arial"/>
                <a:ea typeface="Arial"/>
              </a:rPr>
              <a:t>í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Chauga River by Harriet  Picturebu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84360" y="981000"/>
            <a:ext cx="4599000" cy="34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1908000" y="5084640"/>
            <a:ext cx="5761080" cy="131292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0" lang="en-GB" sz="8000" spc="-1" strike="noStrike">
                <a:solidFill>
                  <a:srgbClr val="000000"/>
                </a:solidFill>
                <a:latin typeface="Arial"/>
                <a:ea typeface="Arial"/>
              </a:rPr>
              <a:t>árbol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my tree at dusk by joiseyshowa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68360" y="981000"/>
            <a:ext cx="4537080" cy="34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908000" y="5084640"/>
            <a:ext cx="5761080" cy="131292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el ma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Sea life by luisa_m_c_m_cruz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84360" y="907920"/>
            <a:ext cx="423864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908000" y="5084640"/>
            <a:ext cx="5761080" cy="131292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el paisaj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Brazil's Countryside by Sergio Parisi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40000" y="1268280"/>
            <a:ext cx="4815000" cy="32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1908000" y="5084640"/>
            <a:ext cx="5761080" cy="131292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un lag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Reflection in Saif-ul-Malook Lake by Heartkin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84360" y="1628640"/>
            <a:ext cx="4464000" cy="32767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1258920" y="189000"/>
            <a:ext cx="6553080" cy="13129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una monta</a:t>
            </a:r>
            <a:r>
              <a:rPr b="0" lang="en-GB" sz="8000" spc="-1" strike="noStrike">
                <a:solidFill>
                  <a:srgbClr val="000000"/>
                </a:solidFill>
                <a:latin typeface="Arial"/>
                <a:ea typeface="Arial"/>
              </a:rPr>
              <a:t>ñ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1908000" y="5084640"/>
            <a:ext cx="5761080" cy="13129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la tierr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Soil Sample by eroos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40000" y="1052640"/>
            <a:ext cx="4743360" cy="35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12:04:50Z</dcterms:created>
  <dc:creator>Owner1</dc:creator>
  <dc:description/>
  <dc:language>en-US</dc:language>
  <cp:lastModifiedBy>Chris</cp:lastModifiedBy>
  <dcterms:modified xsi:type="dcterms:W3CDTF">2009-01-05T15:51:44Z</dcterms:modified>
  <cp:revision>6</cp:revision>
  <dc:subject/>
  <dc:title>Slide 1</dc:title>
</cp:coreProperties>
</file>